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7E5-5200-470A-B0F7-B888A2388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5B5F-8D93-4E75-8231-001847C9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8784-681B-4BEE-846B-08F7AE68B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B21-A9A2-4B24-9CFE-6BE479EE3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E5AF-B9B4-440E-B936-0E2C2EC70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8166A-95CE-410D-98DE-464B631D4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D475-124F-40EB-A0A5-7D763E9F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609E-F819-42BC-809E-27FD5BC3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E053-D205-4FE4-8D70-5C33D5C8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E741-E552-478C-867F-34CC75D9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5267-E0AB-482E-8CDB-31AA5C07A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B38-D632-47F3-8634-A653118B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9DEB-F6FB-4C40-AFC0-58BB5745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39C1-99E3-41BC-9888-2849811E2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FD86-2EE5-4E65-AE4D-2231F1C1C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D965-60FB-4EFF-B96E-6680AED0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5A756-DE82-4817-83CB-73A4295A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A238-E35A-4E4F-ABAA-EBBBE5D5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50FE-F406-42A6-BDE4-F01C1049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DAAF-2668-4944-81CA-2492DFAD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CC4-CBFB-4F4E-ADFC-F00D1250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B7DB-1A2A-4534-8EDE-9C038C590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E076-16FD-4242-AE51-8C14F4C2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896-9D4F-4781-96C6-F881417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3668-6469-4D54-92BC-34D7A09BF9B4}" type="slidenum">
              <a:rPr b="0" lang="zh-CN" sz="1200" spc="-1" strike="noStrike">
                <a:solidFill>
                  <a:srgbClr val="bcbcb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bcbcb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AA24-7EB4-42C9-9167-2C84A98DEB40}" type="slidenum">
              <a:rPr b="0" lang="zh-CN" sz="1200" spc="-1" strike="noStrike">
                <a:solidFill>
                  <a:srgbClr val="bcbcbc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682560" y="450720"/>
            <a:ext cx="7785000" cy="1695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Book Antiqua"/>
              <a:ea typeface="宋体"/>
            </a:endParaRPr>
          </a:p>
        </p:txBody>
      </p:sp>
      <p:pic>
        <p:nvPicPr>
          <p:cNvPr id="84" name="Picture 2" descr="C:\Documents and Settings\lsabey\Local Settings\Temporary Internet Files\Content.IE5\YSZGR4KJ\MPj04410490000[1].jpg"/>
          <p:cNvPicPr/>
          <p:nvPr/>
        </p:nvPicPr>
        <p:blipFill>
          <a:blip r:embed="rId2"/>
          <a:stretch/>
        </p:blipFill>
        <p:spPr>
          <a:xfrm>
            <a:off x="3048120" y="220824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lsabey\Local Settings\Temporary Internet Files\Content.IE5\YSZGR4KJ\MPj04223130000[1].jpg"/>
          <p:cNvPicPr/>
          <p:nvPr/>
        </p:nvPicPr>
        <p:blipFill>
          <a:blip r:embed="rId2"/>
          <a:stretch/>
        </p:blipFill>
        <p:spPr>
          <a:xfrm>
            <a:off x="1596960" y="1600200"/>
            <a:ext cx="59500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lsabey\Local Settings\Temporary Internet Files\Content.IE5\YSZGR4KJ\MPj04386610000[1].jpg"/>
          <p:cNvPicPr/>
          <p:nvPr/>
        </p:nvPicPr>
        <p:blipFill>
          <a:blip r:embed="rId2"/>
          <a:stretch/>
        </p:blipFill>
        <p:spPr>
          <a:xfrm>
            <a:off x="2995560" y="1600200"/>
            <a:ext cx="31528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8242200" cy="11588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lsabey\Local Settings\Temporary Internet Files\Content.IE5\GBG05ZIE\MPj04064980000[1].jpg"/>
          <p:cNvPicPr/>
          <p:nvPr/>
        </p:nvPicPr>
        <p:blipFill>
          <a:blip r:embed="rId2"/>
          <a:stretch/>
        </p:blipFill>
        <p:spPr>
          <a:xfrm>
            <a:off x="1019160" y="1600200"/>
            <a:ext cx="7105680" cy="47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2" descr="C:\Documents and Settings\lsabey\Local Settings\Temporary Internet Files\Content.IE5\YSZGR4KJ\MCj04413950000[1].wmf"/>
          <p:cNvPicPr/>
          <p:nvPr/>
        </p:nvPicPr>
        <p:blipFill>
          <a:blip r:embed="rId2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Documents and Settings\lsabey\Local Settings\Temporary Internet Files\Content.IE5\YSZGR4KJ\MPj04329500000[1].jpg"/>
          <p:cNvPicPr/>
          <p:nvPr/>
        </p:nvPicPr>
        <p:blipFill>
          <a:blip r:embed="rId2"/>
          <a:stretch/>
        </p:blipFill>
        <p:spPr>
          <a:xfrm>
            <a:off x="1371600" y="18208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Documents and Settings\lsabey\Local Settings\Temporary Internet Files\Content.IE5\Q1HN1WZ2\MPj04393170000[1].jpg"/>
          <p:cNvPicPr/>
          <p:nvPr/>
        </p:nvPicPr>
        <p:blipFill>
          <a:blip r:embed="rId2"/>
          <a:stretch/>
        </p:blipFill>
        <p:spPr>
          <a:xfrm>
            <a:off x="3065400" y="1690560"/>
            <a:ext cx="30132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2" name="Content Placeholder 3" descr="C:\Documents and Settings\lsabey\Local Settings\Temporary Internet Files\Content.IE5\YSZGR4KJ\MPj02278080000[1].jpg"/>
          <p:cNvPicPr/>
          <p:nvPr/>
        </p:nvPicPr>
        <p:blipFill>
          <a:blip r:embed="rId2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Title 1" descr=""/>
          <p:cNvPicPr/>
          <p:nvPr/>
        </p:nvPicPr>
        <p:blipFill>
          <a:blip r:embed="rId1"/>
          <a:stretch/>
        </p:blipFill>
        <p:spPr>
          <a:xfrm>
            <a:off x="426960" y="79200"/>
            <a:ext cx="8375760" cy="1463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7" name="Picture 5" descr="C:\Documents and Settings\lsabey\Local Settings\Temporary Internet Files\Content.IE5\YSZGR4KJ\MPj04223130000[1].jpg"/>
          <p:cNvPicPr/>
          <p:nvPr/>
        </p:nvPicPr>
        <p:blipFill>
          <a:blip r:embed="rId2"/>
          <a:stretch/>
        </p:blipFill>
        <p:spPr>
          <a:xfrm>
            <a:off x="1371600" y="1523880"/>
            <a:ext cx="5780160" cy="45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2819520" y="1523880"/>
            <a:ext cx="3743280" cy="4338720"/>
          </a:xfrm>
          <a:prstGeom prst="rect">
            <a:avLst/>
          </a:prstGeom>
          <a:ln w="0">
            <a:noFill/>
          </a:ln>
        </p:spPr>
      </p:pic>
      <p:pic>
        <p:nvPicPr>
          <p:cNvPr id="89" name="Title 1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394840" cy="20242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09120" y="2285640"/>
            <a:ext cx="80773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Book Antiqua"/>
                <a:ea typeface="宋体"/>
              </a:rPr>
              <a:t>                   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Book Antiqua"/>
                <a:ea typeface="宋体"/>
              </a:rPr>
              <a:t>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宋体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Book Antiqua"/>
                <a:ea typeface="宋体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2" descr="C:\Documents and Settings\lsabey\Local Settings\Temporary Internet Files\Content.IE5\GBG05ZIE\MPj04064980000[1].jpg"/>
          <p:cNvPicPr/>
          <p:nvPr/>
        </p:nvPicPr>
        <p:blipFill>
          <a:blip r:embed="rId2"/>
          <a:stretch/>
        </p:blipFill>
        <p:spPr>
          <a:xfrm>
            <a:off x="1143000" y="1752480"/>
            <a:ext cx="65530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50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6" name="Picture 2" descr="C:\Documents and Settings\lsabey\Local Settings\Temporary Internet Files\Content.IE5\YSZGR4KJ\MCj04413950000[1].wmf"/>
          <p:cNvPicPr/>
          <p:nvPr/>
        </p:nvPicPr>
        <p:blipFill>
          <a:blip r:embed="rId2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231840" y="298440"/>
            <a:ext cx="8931240" cy="1560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Documents and Settings\lsabey\Local Settings\Temporary Internet Files\Content.IE5\YSZGR4KJ\MPj04329500000[1].jpg"/>
          <p:cNvPicPr/>
          <p:nvPr/>
        </p:nvPicPr>
        <p:blipFill>
          <a:blip r:embed="rId2"/>
          <a:stretch/>
        </p:blipFill>
        <p:spPr>
          <a:xfrm>
            <a:off x="2286000" y="2057400"/>
            <a:ext cx="518148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560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2" descr="C:\Documents and Settings\lsabey\Local Settings\Temporary Internet Files\Content.IE5\Q1HN1WZ2\MPj04393170000[1].jpg"/>
          <p:cNvPicPr/>
          <p:nvPr/>
        </p:nvPicPr>
        <p:blipFill>
          <a:blip r:embed="rId2"/>
          <a:stretch/>
        </p:blipFill>
        <p:spPr>
          <a:xfrm>
            <a:off x="3124080" y="1752480"/>
            <a:ext cx="31226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450720" y="79200"/>
            <a:ext cx="8474040" cy="1463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3" descr="C:\Documents and Settings\lsabey\Local Settings\Temporary Internet Files\Content.IE5\YSZGR4KJ\MPj02278080000[1].jpg"/>
          <p:cNvPicPr/>
          <p:nvPr/>
        </p:nvPicPr>
        <p:blipFill>
          <a:blip r:embed="rId2"/>
          <a:stretch/>
        </p:blipFill>
        <p:spPr>
          <a:xfrm>
            <a:off x="1828800" y="1752480"/>
            <a:ext cx="54910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2" descr="C:\Documents and Settings\lsabey\Local Settings\Temporary Internet Files\Content.IE5\YSZGR4KJ\MPj04410490000[1].jpg"/>
          <p:cNvPicPr/>
          <p:nvPr/>
        </p:nvPicPr>
        <p:blipFill>
          <a:blip r:embed="rId2"/>
          <a:stretch/>
        </p:blipFill>
        <p:spPr>
          <a:xfrm>
            <a:off x="3276720" y="2209680"/>
            <a:ext cx="289548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23:18Z</dcterms:modified>
  <cp:revision>856</cp:revision>
  <dc:subject/>
  <dc:title>Gou3, GO fetch</dc:title>
</cp:coreProperties>
</file>